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145-A90C-495A-8A32-7101423A1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D6F-9A18-4B87-9B03-2F04E863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F10-1062-436D-8810-448BF9A01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5555-8439-4074-BB38-74F80BB7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3F9-E349-4020-A2D5-7A74D4C1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870-B9D7-40F7-BB8B-7835FE4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E4B58-C65F-4D02-B5E0-63D5222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40CF5-B634-47C6-B19A-BA72E37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768B7-AAF7-4A85-BD4F-10D5FF0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58B88-5885-490E-9A4F-12BC97E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0F6CEE-25A9-43D4-A700-12ED457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FE41F-FA45-4151-A9F5-D821139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2E0AF1-299E-4677-8EF4-B507FFE5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6E726-A741-4370-B30B-86A54A01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B5516-D01C-49C0-9D5E-1E328F3F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B65C3A-E488-41EF-9D7E-3A74FF1A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508-E883-4482-AAA2-B5A1CB66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3B06A-0092-4732-AB6B-C803027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CE206-4D01-4DA5-9AAF-0924CF6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B9C6C-C859-4A0B-B8C9-A87BCDBA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B37DF-9015-41BD-AEF2-97D84B8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B8D96E-6AC7-488D-B042-D50BD7E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05FA7F-093C-4C2A-AB56-4D7C52B1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5A6F1-235C-4B48-86A1-5B7C841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4BA6C-D4DB-4A09-91CF-C1A6DE2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A8970-CAFF-4E0E-95FC-2415741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0493B-2DF8-4BA6-8BEF-015659A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377-BC3E-4223-80DC-1103C1EF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C2B94-4AB2-493B-9102-F17C2B26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1E164-9F15-4855-B2FC-A131F436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7258A4-66B5-4DEF-AC2A-FF5B552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B03167-71DD-4919-8833-997D72E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0DEB9C-E4E9-4E68-A5AE-B0595CD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FBCEB3-4ECD-4D2B-B28E-07DB2DF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72DE23-AA72-47F4-AFB6-2B1A8EE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20A7B-7741-4BCF-BCD2-9B47AAD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C23DBE-FBEA-47CB-AE47-69986F4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64AE39-5316-4652-A528-DED608E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78DC-323E-465E-9E7D-5FD37333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D9E375-15D1-4023-A716-926E76C7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5515C-9820-4C57-8048-0CBFCB22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9C64E2-095C-4754-AA98-8F4BDB0D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670842-9DD3-4ACF-A544-4A771F5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3E313E-7D29-42E5-8813-8741AEC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EAD9F7-A1CE-438D-AE08-C14D7F8A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03534B-4AE4-4018-8983-FB6CCFA1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7788D0-00FD-465B-81CF-46E512F1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DB5D3-8F78-42A4-9DDD-0D9C395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990CC-3E53-4475-94E7-ADA31D3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7E21-4142-4CDB-8A58-DD6280D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E55B95-D8EF-4006-AC20-232A7DA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2433F4-1067-48E1-BCF4-BFFC74E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5D4D19-4C19-49FC-9CC2-413D75DD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29AA7E-A749-4F77-BD5F-A1F39079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D4BCC7-4934-481E-9DED-210CEEEB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871C7D-2E07-4B6B-A1B5-455F78D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927868-A187-4216-930C-5D8EC950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298225-ECAE-4DD7-94E4-C730C2E9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3E3B0E-7DC9-4EF4-A67D-D3AA657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2100CD-ED6B-4A94-BC0D-040C143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2BF-DD74-4344-A92B-BAEE10AE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0404B4-511D-416C-B06C-333AF618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E0A537-A4C0-47A9-A512-0565E71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14D914-EE0B-46D4-89D8-A4AF406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9BEE9-EF93-4384-BE48-135CFFB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0EBB42-837C-4FED-B652-2ECE0A2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562EF1-1FD2-4F7A-9B97-8BBDE3FF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5DEAB-8B09-4749-A8CB-0B3AE6B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D9CE65-8619-4B83-A1F6-CA53102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C465BD-1C18-4608-A27C-AA5F6DB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1988B3-1CFA-4A19-ADFE-3229A7B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11F-B9F9-4B79-A53A-BA4E02F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D86D73-B9D9-40D7-B804-5C9655DD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64E93F-871D-40ED-B6FE-1AEE209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58FE3C-8CDB-4309-8AE3-BB04AAF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10FE7B-A3C8-4893-8D95-43D6769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B21A57-9BCE-400D-A344-D9C36A9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5E5891-F540-4766-8FAE-D82A2A0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FC638B-DEFB-4E60-AB1C-5A9EF50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737292-2250-4968-A96F-65831602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B886EA-BE47-41DF-A0F8-A314A9B1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F01195-D4F4-4A29-B9C2-54456FF3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0E69-E49F-461C-8217-9322F99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AB365B-D5B9-4BE9-A188-1C6A6E83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E71A67-3611-425D-A3FA-4B81FF6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201220-8A56-4570-BB89-EAFB7E27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FA3BC2-B9F6-434A-B6D9-E93A001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1EEC93-E7BD-46A4-BDD4-77BC03D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C63912-E03F-40E4-A47B-48685F8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430EC9-5327-421E-8EE0-3AF50F3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E81A5B-8C08-47AA-8016-5A1BC2A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9E1DA1-4659-4EC5-9419-FEF69CE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C3EA2A-3A0E-45B8-9B68-984DBF95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0162-97E1-4E6C-8BD8-76178BB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0CB466-C742-42F5-8F9F-DF66A206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94D-2200-4D6D-93D0-B5D9F45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4C9-59BB-469C-AC27-D8760D2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9AB-5D02-4ACF-92E8-CB7ED82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58A-37E7-49A2-AA23-91E1E3B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F6C6-97FF-4C72-B9C6-5F4E5DB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E98C-C096-41A5-81CE-C39DC1F9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A92B-0134-4CF5-9EAB-12628AE1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F128-88DD-4D76-B15A-5AEEC1AC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B8FE-884A-4933-B636-32F4FB8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B224-38DE-4D3C-B865-1B8D57D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AA85-D684-4ACE-9E3C-1F8A6B1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4B39-3707-46E0-A3D4-E3C156B5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6BD-C663-4070-8C46-23A343D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8797-5336-4F61-B3C1-29D2C0EE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E6EE-F717-463E-BEC7-87772DA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C565-2F90-4597-B3CD-537C984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0517-4005-4C46-AA01-ABA2211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0776-07B8-448C-A532-82C7268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D2CA-4BBD-49F7-9357-83B7DE27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DF1C-0C30-4D28-905B-89BB5CB1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C68-7003-429D-AFC3-101AD9B0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C592F-5C04-4F09-B8CF-F9355477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4E1-65E4-4159-A4C8-91DF2D7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228F5-AB26-4C97-977B-6E57EFE5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68AEA-490D-4C6D-AF77-D40C4949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10BC1-D65C-4CD6-A58A-102F5A2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5E80D-293A-4998-9D88-4F9B4F7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B0553-A450-4781-A963-89612D3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CE4B7-D3E5-4EC3-BF34-98FF02D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D8DE6-2A40-4C3A-8A8D-A341DAF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CA38F-5C37-4674-90AC-E2E9B79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412AF-B38A-4118-9ABA-F0F8FAFE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B00E8-5489-44BA-9962-CEB1325E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2B1-19A9-45B0-857C-CAF04EDF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046AA-CB05-4D4C-AE30-8EFF23DF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BB2EC-BCD1-47F8-8793-410DCB08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14F3B-9195-4B96-95E9-07C3FAC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0551C-6EE6-477D-A6DE-78F6263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7DEF7-39EA-4053-B590-7E33156D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B3E77-E9EF-45D0-824A-9942723B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E2C31-3D38-4F41-A3D4-50D28FD4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13C85-7D4F-47B1-A846-F3C6142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380EF-A071-46A6-BBAC-00CFA6F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FD146-B12D-4DC1-8C02-7A64436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A59-D3F6-4F94-90B1-EAC90F8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B34A5-2CB6-469A-BBD8-FF98590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39CF9-90F2-43A8-B7BE-D89B6D61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6602E-B44B-4AA2-BD0A-093596AA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733FB-498B-4106-A404-CE3FBCF2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5C2DF-56D1-49C3-B7EB-9A980A5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78505-6483-488A-98E7-59EEC16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AC777-B6D0-44D2-A709-61665D4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B3137-0ACC-4248-B710-A870F802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CFB0E-8484-4453-80F6-81F9A30D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B0E08-1769-448C-AAAD-B66E1ED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359-975E-40E7-BBE8-D40E55C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7BB6E-D2C9-4361-ACD8-4D0AC7F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46E0A-C7B5-4E35-BF33-0C32A25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583E0-32AD-4971-B44C-7BE697A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4D9C9-D3B7-4488-B333-DB125CC8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B7237-5A6B-4D15-8CAA-2BE2F2FB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28391-A07F-4E2E-B48A-72375BCA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D63C7-1705-47CB-9F52-7FD131E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CFEFC-0B6E-487F-8DDB-2D72A51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9E72B-AD65-4BEB-BEBA-3629EC2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AB222-38EC-4042-8BF9-6EA51D3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8DD-6861-43FD-BEDF-7A10AB7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CEAC71-0B55-4E28-8900-96CE7148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8934B-C01B-4EE5-ACD3-BE2E7B5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57A48-FCF7-4B84-A400-0E726C2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F8035-E7C4-4000-A8F5-352BD42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CF2AC-4772-4650-9F32-2B80652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26337-B68E-4370-BB51-B48B2312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269FA-8B29-4AEF-A6B3-807465F7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F819DB-50BC-4186-80AD-C157DEB7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CF211-ADF9-48BC-A935-3B4C837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7902A-6527-43BF-9FF8-3EA0BFC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535-63DD-46B8-A8C1-D71DB6C83E0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B1C-DC85-47BF-BAEC-6ABA0039369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15E7-9CB8-4E39-B627-58B5F05AFF2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8A4E-5904-4FAE-9689-DD9ACA56E83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1EA2-3BEF-4E5A-88BE-346C30427DF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25DA-A5A3-40DE-BC5D-62333CFB9CF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815A-0187-4880-9D49-003DBB5ADF1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18F-0B74-417F-A7EB-7DBBA7CD1DE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867-A95B-4583-8CCE-5D604C6B783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4866-B3B9-46E9-8A0B-8E274CC8C9D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91F-4D58-4218-BD19-C11E21ED1AA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7A3-7399-4877-96D0-D13225CCB67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2B6-8317-41C2-9626-969FD40A1B7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441-269D-4A90-903D-E1DDC0FD59D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835-2015-4BAE-84F3-FAFFA8F17C3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F52-E747-4500-8CE1-2BC964F1071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595-D280-46B3-AEAC-56D78613406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6C2-A6F8-41D2-B7E3-BD15DB3E516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830-1119-4B66-B7C8-8074445A5A4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2471-8C40-4DF2-9143-720B650CDFE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C95-3A98-4CA4-B18D-0F31A96716E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14BA-2ACB-4D34-8B00-B14A06DE5E5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C320-7A4C-4ECD-A1C7-29B17FF9D8D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67F1-43E7-4417-B71B-11CC4B21715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0E4-6179-4A46-8838-FC4045D808D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46A4-1D43-475E-AA22-AB63490CB4D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08B-444D-4882-93F1-817BED8E13A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C008-A59A-48B9-BDC5-7E7996E734D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5C96-9152-4DAA-8653-B63600A6257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680040" y="304920"/>
            <a:ext cx="42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685800" y="1600200"/>
            <a:ext cx="5562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AN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345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sto MT"/>
              </a:rPr>
              <a:t>RELATIONSHIP OF A T ACCOUNT TO AN ACCOUNT FORM</a:t>
            </a:r>
            <a:endParaRPr b="0" lang="en-US" sz="26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00000" y="3134880"/>
            <a:ext cx="734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Picture 3" descr="D:\C21 PowerPoint\Multi_Journal\art for blue\Ch05\Ch05-01a.jpg"/>
          <p:cNvPicPr/>
          <p:nvPr/>
        </p:nvPicPr>
        <p:blipFill>
          <a:blip r:embed="rId2"/>
          <a:stretch/>
        </p:blipFill>
        <p:spPr>
          <a:xfrm>
            <a:off x="457200" y="1220760"/>
            <a:ext cx="4648320" cy="2811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D:\C21 PowerPoint\Multi_Journal\art for blue\Ch05\Ch05-01b.jpg"/>
          <p:cNvPicPr/>
          <p:nvPr/>
        </p:nvPicPr>
        <p:blipFill>
          <a:blip r:embed="rId3"/>
          <a:srcRect l="49228" t="0" r="0" b="56966"/>
          <a:stretch/>
        </p:blipFill>
        <p:spPr>
          <a:xfrm>
            <a:off x="463680" y="4344840"/>
            <a:ext cx="6591240" cy="22845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7513920" y="624924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HART OF ACCOUNT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9" name="Picture 3" descr="D:\C21 PowerPoint\Multi_Journal\art for blue\Ch05\Ch05-01c.jpg"/>
          <p:cNvPicPr/>
          <p:nvPr/>
        </p:nvPicPr>
        <p:blipFill>
          <a:blip r:embed="rId2"/>
          <a:srcRect l="0" t="0" r="0" b="11583"/>
          <a:stretch/>
        </p:blipFill>
        <p:spPr>
          <a:xfrm>
            <a:off x="609480" y="1600200"/>
            <a:ext cx="7772400" cy="41972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4"/>
          <p:cNvSpPr/>
          <p:nvPr/>
        </p:nvSpPr>
        <p:spPr>
          <a:xfrm>
            <a:off x="7666200" y="726840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ACCOUNT NUMBER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2" name="Picture 3" descr="D:\C21 PowerPoint\Multi_Journal\art for blue\Ch05\Ch05-01.jpg"/>
          <p:cNvPicPr/>
          <p:nvPr/>
        </p:nvPicPr>
        <p:blipFill>
          <a:blip r:embed="rId2"/>
          <a:stretch/>
        </p:blipFill>
        <p:spPr>
          <a:xfrm>
            <a:off x="457200" y="3429000"/>
            <a:ext cx="8229600" cy="10447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751392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60948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in a General Ledger are arranged in the same order as they appear on financi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OPENING AN ACCOUNT IN A GENERAL LEDGER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6" name="Picture 3" descr="D:\C21 PowerPoint\Multi_Journal\art for blue\Ch05\Ch05-01d.jpg"/>
          <p:cNvPicPr/>
          <p:nvPr/>
        </p:nvPicPr>
        <p:blipFill>
          <a:blip r:embed="rId2"/>
          <a:srcRect l="0" t="4600" r="21070" b="0"/>
          <a:stretch/>
        </p:blipFill>
        <p:spPr>
          <a:xfrm>
            <a:off x="457200" y="2320920"/>
            <a:ext cx="8199360" cy="317196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4"/>
          <p:cNvSpPr/>
          <p:nvPr/>
        </p:nvSpPr>
        <p:spPr>
          <a:xfrm>
            <a:off x="7429320" y="68875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18"/>
          <p:cNvGrpSpPr/>
          <p:nvPr/>
        </p:nvGrpSpPr>
        <p:grpSpPr>
          <a:xfrm>
            <a:off x="1600200" y="1782720"/>
            <a:ext cx="533520" cy="837720"/>
            <a:chOff x="1600200" y="1782720"/>
            <a:chExt cx="533520" cy="837720"/>
          </a:xfrm>
        </p:grpSpPr>
        <p:sp>
          <p:nvSpPr>
            <p:cNvPr id="729" name="Line 9"/>
            <p:cNvSpPr/>
            <p:nvPr/>
          </p:nvSpPr>
          <p:spPr>
            <a:xfrm>
              <a:off x="1863720" y="2163600"/>
              <a:ext cx="0" cy="45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"/>
            <p:cNvSpPr/>
            <p:nvPr/>
          </p:nvSpPr>
          <p:spPr>
            <a:xfrm>
              <a:off x="1600200" y="17827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7"/>
          <p:cNvSpPr/>
          <p:nvPr/>
        </p:nvSpPr>
        <p:spPr>
          <a:xfrm>
            <a:off x="165960" y="5668920"/>
            <a:ext cx="37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67400" y="6032520"/>
            <a:ext cx="42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19"/>
          <p:cNvGrpSpPr/>
          <p:nvPr/>
        </p:nvGrpSpPr>
        <p:grpSpPr>
          <a:xfrm>
            <a:off x="7848720" y="1782720"/>
            <a:ext cx="533160" cy="837720"/>
            <a:chOff x="7848720" y="1782720"/>
            <a:chExt cx="533160" cy="837720"/>
          </a:xfrm>
        </p:grpSpPr>
        <p:sp>
          <p:nvSpPr>
            <p:cNvPr id="734" name="Line 13"/>
            <p:cNvSpPr/>
            <p:nvPr/>
          </p:nvSpPr>
          <p:spPr>
            <a:xfrm>
              <a:off x="8118360" y="2163600"/>
              <a:ext cx="0" cy="45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7848720" y="178272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2:37:10Z</dcterms:created>
  <dc:creator>Mary Colleen McLaughlin</dc:creator>
  <dc:description/>
  <dc:language>en-US</dc:language>
  <cp:lastModifiedBy>David Combs</cp:lastModifiedBy>
  <cp:lastPrinted>1999-03-30T06:18:03Z</cp:lastPrinted>
  <dcterms:modified xsi:type="dcterms:W3CDTF">2012-10-04T21:37:12Z</dcterms:modified>
  <cp:revision>17</cp:revision>
  <dc:subject/>
  <dc:title>THE ACCOUNTING EQUATION</dc:title>
</cp:coreProperties>
</file>